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0FE4-1ACC-480B-8FF1-FAF2F0BE8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41E-88D0-470F-8E2C-ADE8A1F5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Lai, McNaughton, Hasiao, Mose, Hall, Knight and Gray, Se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175-AB9D-4516-A66A-EE46AC5B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 out Figure 3: Reading literacy proficiency levels (from p. 8 PISA 2009; Our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 learners at age 1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NZ’s placement at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ver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wide disp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Z 4,643 students from 163 schools took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abs with each group on th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028-4F21-4172-A3CC-8369289CA7C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any of these that you are not familiar wi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EE9-CE47-44B6-8811-318F1168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questions; Focus group questions NCEA externals and sample responses: Y12 Focus group responses to ha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5161-5AD2-4401-AE91-E5A8434D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Followed by sample analysis of NCEA data from a learning ar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9B21-3082-447D-82AD-0461FC53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E07-FFA0-4D78-BFF8-31F9552D9A88}" type="slidenum">
              <a:rPr b="0" lang="en-NZ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3C0-D566-4645-9BCA-8C52B3068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0720" y="4343400"/>
            <a:ext cx="602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Shanahan and Shanahan (2008)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Teaching Disciplinary Literacy to Adolescents: Rethinking Content-Area Lite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A41D-5CCA-460C-9030-903FC13D7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E701-F452-4759-8FD8-FA78AA74C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Discussing /examining Literacy Leader’s role when working with Learning Area leaders.  Refer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Leading from the Middle: Educational Leadership for Middle and Senior L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A55-0BA8-4F7D-B5AB-832D814BC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87F-79F2-46BA-8982-45A4D309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910-F88E-47A6-B386-834CEFB4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9C0-6055-4F76-A640-9B9BBD35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FD5-4ED3-4CB3-877D-365E868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429-9BCE-4968-BEC6-B11D48D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408-AA27-4880-972D-FAF5D61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B3A-3220-4D21-BA28-F3B71B45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D7B-6CAE-4D20-84C9-07980E47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17D-58D2-4026-B879-33BBD2A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5FB-63AD-478F-A2DB-F2CD6F2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23C-1FBF-4D3C-9971-B15AC4C6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735-9D55-408F-8921-FAF58278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30F2-DB57-473C-BA4E-15707F5295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Verdana"/>
              </a:rPr>
              <a:t>Literacy Leaders Supporting Middle Leaders in Subject-Specific Literacy Practi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ck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 M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6600"/>
                </a:solidFill>
                <a:latin typeface="Verdana"/>
              </a:rPr>
              <a:t>How we work together in PL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Verdana"/>
              </a:rPr>
              <a:t>Evidence shows the most effective professional learning and development…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is directly focused on raising student achiev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uses the inquiry process to sustain this foc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is a collaborative 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is based around gathering evidence of shif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requires the embedding of processes and practices so that they become taken-for-granted features within sch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95680" y="914040"/>
            <a:ext cx="47894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Reading literacy proficiency levels PIS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Content Placeholder 3" descr="PISA 2009 - Fig 3"/>
          <p:cNvPicPr/>
          <p:nvPr/>
        </p:nvPicPr>
        <p:blipFill>
          <a:blip r:embed="rId1"/>
          <a:srcRect l="0" t="628" r="0" b="521"/>
          <a:stretch/>
        </p:blipFill>
        <p:spPr>
          <a:xfrm>
            <a:off x="0" y="163440"/>
            <a:ext cx="4446720" cy="63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4572000" y="1371600"/>
          <a:ext cx="4262400" cy="639720"/>
        </p:xfrm>
        <a:graphic>
          <a:graphicData uri="http://schemas.openxmlformats.org/drawingml/2006/table">
            <a:tbl>
              <a:tblPr/>
              <a:tblGrid>
                <a:gridCol w="1420920"/>
                <a:gridCol w="1420560"/>
                <a:gridCol w="142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/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611600" y="2057400"/>
          <a:ext cx="4262400" cy="457200"/>
        </p:xfrm>
        <a:graphic>
          <a:graphicData uri="http://schemas.openxmlformats.org/drawingml/2006/table">
            <a:tbl>
              <a:tblPr/>
              <a:tblGrid>
                <a:gridCol w="1420920"/>
                <a:gridCol w="1420920"/>
                <a:gridCol w="1420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10160" y="2514600"/>
          <a:ext cx="4262400" cy="514440"/>
        </p:xfrm>
        <a:graphic>
          <a:graphicData uri="http://schemas.openxmlformats.org/drawingml/2006/table">
            <a:tbl>
              <a:tblPr/>
              <a:tblGrid>
                <a:gridCol w="1420920"/>
                <a:gridCol w="1420560"/>
                <a:gridCol w="14209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keh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48320" y="2971800"/>
          <a:ext cx="4262400" cy="380880"/>
        </p:xfrm>
        <a:graphic>
          <a:graphicData uri="http://schemas.openxmlformats.org/drawingml/2006/table">
            <a:tbl>
              <a:tblPr/>
              <a:tblGrid>
                <a:gridCol w="1420560"/>
                <a:gridCol w="1420920"/>
                <a:gridCol w="1420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8320" y="3352680"/>
          <a:ext cx="4262400" cy="447840"/>
        </p:xfrm>
        <a:graphic>
          <a:graphicData uri="http://schemas.openxmlformats.org/drawingml/2006/table">
            <a:tbl>
              <a:tblPr/>
              <a:tblGrid>
                <a:gridCol w="1420560"/>
                <a:gridCol w="1420920"/>
                <a:gridCol w="14209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ECD 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3809880"/>
          <a:ext cx="4297320" cy="1041480"/>
        </p:xfrm>
        <a:graphic>
          <a:graphicData uri="http://schemas.openxmlformats.org/drawingml/2006/table">
            <a:tbl>
              <a:tblPr/>
              <a:tblGrid>
                <a:gridCol w="1405080"/>
                <a:gridCol w="1446120"/>
                <a:gridCol w="1446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āori Slovenia,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</a:t>
                      </a:r>
                      <a:r>
                        <a:rPr b="1" lang="en-NZ" sz="1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th</a:t>
                      </a: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0" y="4800600"/>
          <a:ext cx="4262400" cy="1614600"/>
        </p:xfrm>
        <a:graphic>
          <a:graphicData uri="http://schemas.openxmlformats.org/drawingml/2006/table">
            <a:tbl>
              <a:tblPr/>
              <a:tblGrid>
                <a:gridCol w="1420920"/>
                <a:gridCol w="1420560"/>
                <a:gridCol w="1420920"/>
              </a:tblGrid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ove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Data Coll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ources of Evidence e.g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tudent achievement data (NCEA results, asTTle, PAT, subject-specific data,..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Classroom observ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Interviews with teachers, middle lead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tudent voic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Learning area pla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tudent learning pathway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chool systems and processes – PLGs, reporting, community lin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llecting and using student vo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student vo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1 RI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 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 example of a focus group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chool’s NCEA results were much stronger in the internals than in the externals (except in two subjec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believed the externals were too difficult for many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group of Y12 and 13 students with facilita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Data Analysis and Us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Verdana"/>
              </a:rPr>
              <a:t>How is data used within a learning area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Verdana"/>
              </a:rPr>
              <a:t>Which pieces of data have the most influence over changing teacher practice and student outcom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Verdana"/>
              </a:rPr>
              <a:t>What does the data tell you about the literacy strengths and needs of the student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ing as Inquiry in the NZ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248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ing as inquir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important (and therefore worth spending time on) given where the middle leaders are 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evidence-based strategies are most likely to help middle leaders achieve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happened as a result of the support? What are the next steps in my learning? In the learning of the middle lead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Literacy Leaders wil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 their awareness of the literacy and language demands inherent within learning areas at NCEA levels 1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 their capacity to use data effectively to determine students’ literacy and language strengths and needs at senior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Focus their attention on the literacy and language needs of priority learners: Māori, Pasifika, and learners with special educational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 and develop their ability to support middle leaders to respond effectively to the identified literacy and language needs of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Verdana"/>
              </a:rPr>
              <a:t>GOVERNMENT GOAL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ucket list ideas for teenagers"/>
          <p:cNvPicPr/>
          <p:nvPr/>
        </p:nvPicPr>
        <p:blipFill>
          <a:blip r:embed="rId1"/>
          <a:stretch/>
        </p:blipFill>
        <p:spPr>
          <a:xfrm>
            <a:off x="6012000" y="1052640"/>
            <a:ext cx="2641320" cy="26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3"/>
          <p:cNvGraphicFramePr/>
          <p:nvPr/>
        </p:nvGraphicFramePr>
        <p:xfrm>
          <a:off x="6012000" y="3789360"/>
          <a:ext cx="266364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3789360"/>
                    <a:ext cx="266364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4"/>
          <p:cNvSpPr/>
          <p:nvPr/>
        </p:nvSpPr>
        <p:spPr>
          <a:xfrm>
            <a:off x="611280" y="3429000"/>
            <a:ext cx="508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85% of 18 year old will have achieved NCEA Level 2 or equivalent in 2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Content Placeholder 3"/>
          <p:cNvGraphicFramePr/>
          <p:nvPr/>
        </p:nvGraphicFramePr>
        <p:xfrm>
          <a:off x="533520" y="1752480"/>
          <a:ext cx="777240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7724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4"/>
          <p:cNvSpPr/>
          <p:nvPr/>
        </p:nvSpPr>
        <p:spPr>
          <a:xfrm>
            <a:off x="324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4000" y="3429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24000" y="400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24000" y="450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324000" y="5084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324000" y="2421000"/>
            <a:ext cx="4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324000" y="2924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324000" y="1844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1116000" y="551664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2771640" y="551664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1908000" y="551664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21"/>
          <p:cNvSpPr/>
          <p:nvPr/>
        </p:nvSpPr>
        <p:spPr>
          <a:xfrm>
            <a:off x="133200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22"/>
          <p:cNvSpPr/>
          <p:nvPr/>
        </p:nvSpPr>
        <p:spPr>
          <a:xfrm>
            <a:off x="219564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4"/>
          <p:cNvSpPr/>
          <p:nvPr/>
        </p:nvSpPr>
        <p:spPr>
          <a:xfrm>
            <a:off x="3132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6"/>
          <p:cNvSpPr/>
          <p:nvPr/>
        </p:nvSpPr>
        <p:spPr>
          <a:xfrm>
            <a:off x="3924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38"/>
          <p:cNvSpPr/>
          <p:nvPr/>
        </p:nvSpPr>
        <p:spPr>
          <a:xfrm>
            <a:off x="48592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40"/>
          <p:cNvSpPr/>
          <p:nvPr/>
        </p:nvSpPr>
        <p:spPr>
          <a:xfrm>
            <a:off x="5796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42"/>
          <p:cNvSpPr/>
          <p:nvPr/>
        </p:nvSpPr>
        <p:spPr>
          <a:xfrm>
            <a:off x="67327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59"/>
          <p:cNvSpPr/>
          <p:nvPr/>
        </p:nvSpPr>
        <p:spPr>
          <a:xfrm>
            <a:off x="5435640" y="5516640"/>
            <a:ext cx="64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0"/>
          <p:cNvSpPr/>
          <p:nvPr/>
        </p:nvSpPr>
        <p:spPr>
          <a:xfrm>
            <a:off x="4572000" y="551664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61"/>
          <p:cNvSpPr/>
          <p:nvPr/>
        </p:nvSpPr>
        <p:spPr>
          <a:xfrm>
            <a:off x="3635280" y="5516640"/>
            <a:ext cx="6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62"/>
          <p:cNvSpPr/>
          <p:nvPr/>
        </p:nvSpPr>
        <p:spPr>
          <a:xfrm>
            <a:off x="6372360" y="551664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70"/>
          <p:cNvSpPr/>
          <p:nvPr/>
        </p:nvSpPr>
        <p:spPr>
          <a:xfrm flipV="1">
            <a:off x="1187280" y="2781360"/>
            <a:ext cx="5472360" cy="503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6732720" y="234936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</a:rPr>
              <a:t>78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32720" y="17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Times New Roman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324000" y="838080"/>
            <a:ext cx="85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5% of 18-year-olds with NCEA Level 2 or equivalent in 2017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8544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Verdana"/>
              </a:rPr>
              <a:t>What do we need to achieve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95280" y="1701720"/>
          <a:ext cx="8353440" cy="3708360"/>
        </p:xfrm>
        <a:graphic>
          <a:graphicData uri="http://schemas.openxmlformats.org/drawingml/2006/table">
            <a:tbl>
              <a:tblPr/>
              <a:tblGrid>
                <a:gridCol w="2098800"/>
                <a:gridCol w="1315800"/>
                <a:gridCol w="1314720"/>
                <a:gridCol w="1699920"/>
                <a:gridCol w="1924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Ga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18 year o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1 (3,6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ā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8 (2,4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sif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.4 (9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āke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8 (3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.7 (3,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 (6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38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762120" y="2590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71640" y="4005360"/>
            <a:ext cx="66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11280" y="4762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26920" y="476280"/>
            <a:ext cx="712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55640" y="1197000"/>
            <a:ext cx="712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ontent Placeholder 9" descr=""/>
          <p:cNvPicPr/>
          <p:nvPr/>
        </p:nvPicPr>
        <p:blipFill>
          <a:blip r:embed="rId3"/>
          <a:stretch/>
        </p:blipFill>
        <p:spPr>
          <a:xfrm>
            <a:off x="438120" y="1103400"/>
            <a:ext cx="8267760" cy="5041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755640" y="476280"/>
            <a:ext cx="777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iteracy and Language 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400" spc="-1" strike="noStrike">
                <a:solidFill>
                  <a:srgbClr val="000000"/>
                </a:solidFill>
                <a:latin typeface="Times New Roman"/>
              </a:rPr>
              <a:t>Shanahan and Shanahan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ubject-Specific Literacy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Students experience the curriculum through the lens of each 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Each learning area has specific ways of processing and communicating knowledge which must be communicated to stud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ing literacy practices in the context of each subject builds an understanding of how knowledge is constructed and produced (e.g. Reading from different perspectives in His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Texts and tasks increase in complexity and become more subject-specific as students move through senior school, requiring  ongoing literacy lear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oje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ategies that good readers employ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ie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uali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strategies are appropriate in every learning area but they are actualised differ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Working with other Middle Lead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0:29:15Z</dcterms:created>
  <dc:creator>Studio 4</dc:creator>
  <dc:description/>
  <dc:language>en-US</dc:language>
  <cp:lastModifiedBy>Irene Andersen</cp:lastModifiedBy>
  <dcterms:modified xsi:type="dcterms:W3CDTF">2013-03-11T21:41:22Z</dcterms:modified>
  <cp:revision>35</cp:revision>
  <dc:subject/>
  <dc:title>PowerPoint Presentation</dc:title>
</cp:coreProperties>
</file>